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98D-1FF6-41B5-B9F9-4E078B5B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E01-FEB9-45BA-B8BD-CAA0EAA7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EE368-B0F3-443E-A358-FCF66165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D1539-087C-4DD3-AB7F-319B46BC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534E0-7AC8-40B6-9965-51CA483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C2531-23EC-4C6B-91FE-3CB8D9C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17AF5-B798-4DD5-913C-48DE561D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AE8AB-82C5-4722-ABDE-7AD0E45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93501-F67E-4132-8666-D2345536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07AC6-D202-445F-8422-8FD8E940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C3DB3-4EFF-4650-BBD5-E3036A68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529D9-3C6C-40AE-AE61-7E35FD38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B5AE-DD21-4052-AD37-DE8A229F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32157-1716-481A-86DF-6E6B9BD2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49DDF-0E01-4D1B-8E92-E286CFA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E4256-3532-46E1-8D00-393D3919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2714-BE26-4B7D-843F-E984508F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C18A5-2134-47CC-82F1-36217B66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C6625-5D96-4375-B635-C528948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C3435-98B3-4E5C-92E6-A0D057A6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F5AAF-A261-47C6-AA31-7CC145C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919EF-10B2-43C9-B9F1-A64C3C5F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FC191-5E67-4F0E-9F73-7A7FA40A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C2D-885B-46C2-81E0-8B834DCE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5F480-9448-4167-84CA-428ABF6C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9FED0-CD5A-475E-9D1B-EF584272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ADF30-F81A-461B-BF5D-52F3E2BF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1CFFC-8106-42C7-8BFA-7BB81E05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59070-712B-42D6-9580-6AD79F15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E1C32-CE62-4AE6-8F06-796D409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C47F1-A5CD-4E42-99D2-1EA9042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BF3AE-DC7D-4978-B7F1-747935CF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C34A8-EF32-4929-AA5E-4B9A70E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1823F-B612-48C6-A998-8E65DFA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8CE-3CA8-4C1A-9F0D-6A063FC2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E4D93-0A77-4186-9183-A714A29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F4ACA-C8B1-450D-898A-3ACC02C3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A7883-5DCE-4B18-8DC4-15259CF0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B4B7B-55E2-4544-B42A-297184E1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904AB-92E0-4715-9EAC-2304C6D2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BF5B3-D0E0-4907-99B3-53F67067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62074-66AE-4961-B19E-7414238C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24360-6BD2-4778-9456-1299A963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459DA-1517-4A0C-A4B4-F2D90A99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3EC73-5297-4FCE-BAAE-9A63B4ED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EB69-E858-4DC0-B22C-21A026D7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71B6E-508F-4AD5-BB9B-35855CB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34DBC-70B9-4B43-9B29-CA02E246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0ADE1-4FC2-41BA-8997-490355B3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C93BA-F3CD-4427-9052-652359CB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B469A-1407-49EF-8565-3A2EA77B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E256A-2047-47D3-AB91-3AEF913D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56086-6053-4E24-BD69-89250B0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C2F2B-7F33-4315-A770-EBB430D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81386-F182-4A3C-8819-5E5716D5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E3603-1D87-489A-974A-4691E6FA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0DEF-C434-46E3-A02A-FDFC9360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F2844-5506-4DED-91F3-0B81D7D3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F1F31-91E8-400C-9655-1D30669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3D3BE-F860-4C43-BCF9-60CA742C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D946B-6686-493C-94CE-D71E6B0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FB0F1-382E-4FBE-ADA2-0FEA5288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E7EC9-06A1-48FB-BEBD-4D9E09E6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DB5DAB-E4EB-4CE3-9A47-3AD0BC50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21D81-D68F-4770-A729-9A46B75C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AC3A9-BE14-4B3E-88EF-68201ADB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B0672-FF3C-4776-ADC8-48386CCF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F0BC-BFB2-4DAD-95A9-C3A49DE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54014B-CCE1-44D3-9464-3A9FAB8E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85DBE-D5BD-4F4E-AE66-D4411EEC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14D16-2CAB-4992-81DB-103B4C46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96DA83-1F86-49B0-9A51-92735A04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E4C05-1182-498F-B339-D17CCD71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BC7F1-0963-439B-8DAF-04BC5DD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16A52C-95E2-43F5-8806-BA438ECF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CC273-B2C5-411F-A604-51F96C89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AC499-775D-4D77-BD54-4B88A676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7E5D8-F0C2-43C3-8558-BD093416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C08C-7D4D-4DDC-BEB0-2648C232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C2D49-EC69-4431-9B99-BABA5112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C9A10-ECF4-42DD-AF18-B29AE87C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306397-8357-4804-A533-8B643993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117B1-3CAD-45D8-B7AC-E409F9B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FE7D6-7FF6-4E86-AD2B-EDB3437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74FF7-38D5-4992-A147-B975D04C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9735D1-D18E-4ED1-BED4-D245C865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F600F-90A7-4E90-BFAF-107AE1D9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90FAD9-C2C6-4ABB-B387-CE307911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FD07D-76D3-46C6-A1D0-A83EE682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54B-6629-4379-8B83-F59BF29D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17C6E-949D-48FD-9891-95D5A6DB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A4244-7052-45C3-9744-13E450F5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163A6E-F164-4AAF-9891-9366727F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8DE6E-52EC-4CA1-BFA7-B4B8EEB3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7FCE2-7BAA-4473-87CC-A93F58E2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AB56E-2BFA-42CF-B5E7-B1F1A643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CEE6E-B12F-4B70-8566-A3D6D297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49A51-A71C-4DE5-AF47-D7F68865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8F98D-004F-42E7-922F-DA3F2ED2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63528-0443-46DD-914B-1CF6CF51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439-B6FE-4FCE-A658-64698E5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A677C-22EB-48DE-9967-085D5FF6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D24A42-74DD-4979-B808-90DE32A1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BDEE2B-5524-4183-A9D4-280DDD80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426D2-6278-4C6C-A919-BAEBD04D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A7CD2-DA87-4C7D-8618-3309E2B4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CE908-AB76-46F0-8E0B-383830FA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78FE7-6029-49AC-A5A3-0E50FF25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F62B8-3CDF-43E2-A41D-D1708472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E0ECE-8627-4512-B0E7-21C0231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092A07-A512-4FB0-8217-04E750D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88E-ED49-45BC-8061-7EBE462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BC07-64D2-463E-8A9D-A264F68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14E54-ED2B-4C29-B9E7-016DC003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F6438-3EAD-40CD-B484-D73B377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B6DD4-5DFE-4D51-AEE4-C0345EB0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E5F28-4E94-47EB-BF1A-5CF7B7A1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33643-5E5F-4D62-A35C-9AD910A2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B6959-2BFB-496F-A15B-D3B95FF1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794A2-7FA0-4EC3-8E4D-5BF7D516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D2A65-AD80-4FF4-A2D2-44FB98BD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394E58-9496-4314-AB42-B3633B77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805DB-E7C1-4924-A152-D9CE55C2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037F-21B6-48B7-BE0E-6DB7831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C105C-A390-41DA-A1EB-4F9A869F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2D025-1419-4378-BA04-833F1D09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52BCC-4ABA-4EC2-9ED8-148D72E9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477E7-5040-49FD-A6E0-BD2BB24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5DF7A2-5B3A-427D-AB74-A81B498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F555C-2E6B-468E-9936-039F65FE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B274E-A0BC-4BAC-B127-B470A483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50FB6-BC54-4B68-8689-3A5A4E8A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0B0E7-88E5-4C70-B016-CDA4FC02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45F7C-3DD8-4BAD-8D29-319F2D6C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3268-51EB-487D-9276-1A9CEB22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A5559-D459-4C95-B86A-43D4C234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3BDF5-4BFA-430D-80C7-CFCD81D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1B8FD-71B5-46EE-9DD2-2D5FAEAF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12C231-7407-4BC9-9737-8ABA521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2A334-BBCC-4B03-9A33-4E72550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95B9E-777C-484F-BC47-78E31E0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13FA9-2FAD-4226-B0E4-8CA0339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68E57-705D-40D6-8CC9-79D53DBD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D2727-2E91-46F8-8713-1A7A01EC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E027E-DC4E-4B76-9445-DF0EFC36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8A4B-8A2E-4A99-A36B-4D0EDEF1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069ED-5A96-44A3-933F-E9CEC3D6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439B59-27BD-40A3-A984-707C602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AC4BC-2662-4A95-BA7E-39E2D76E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381E86-33A2-4BD9-A1AD-63303CAD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6F6A0-02AE-4F76-B3A8-94C5E676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ABD0B-C22E-4EF1-9A53-F07F50B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D42CE-838C-48B4-AC49-5AB7BD2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10E565-73EE-4C1B-85E2-389C1074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2CA92-E649-41D1-8CD7-05067918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B550B-8299-403C-9846-DA373F4A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986A-B4F8-404A-A3C8-97617D88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2B5FD9-1FD3-48DF-B786-F509D70E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3B5B3-158B-4BDC-84D1-61CF8D7B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FE5C7-1B12-43E8-BFCF-36C3F237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988BD-ED63-465C-8D4D-9E500C64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C13870-E1EE-4ECB-B8BE-93F46EFA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7AE34-6726-4465-A466-272C83CE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C3B5CB-79B4-49C4-97C4-95C81CDB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A37374-C28A-4BBD-8489-497854B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F21FA0-2221-4725-898F-955C3023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8CAD9-0783-4209-BCA7-6AD8C537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CC0F-5786-43A4-92B9-7241267B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5AE1DA-7632-4FD6-8B60-0540A011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83987-FFF2-4024-83A5-9DD32C17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BD1AD-DB6A-48A3-87F1-9A8FE324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F9ED-5FAD-4440-9E0E-685B8F8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29972-E7CC-4C83-B345-5BEBBB1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42CDF-6DD9-44EC-AAF3-C044EB91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30CB3-D0DC-4F1E-AC75-E589A389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BF2-878D-4BED-8F57-4CAA058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344D-44D6-4A70-800F-EA6759C5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DD5B-1785-408E-8346-C9110D3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6B82-A4BF-44A4-BDD2-1A3458F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9BA8-B551-4A15-9A57-4CDD30F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4DC5E-6D59-4833-9C29-8269E5EE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1D75-F15C-41B9-AEC6-82AC1ECE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EFF4-769E-4215-A89A-35152182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3AA1-6C7B-498C-9789-27675EFB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BA4A-D71F-4827-A1BF-7D05C57A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31339-BC0A-424C-8CBD-72A937D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A93-AB33-4528-A588-A72230F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9F186-9263-4D9B-98D0-3188804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6AC2-29E4-4093-A31C-3A945B8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1B3C-C11B-4FA9-9704-667A5FD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61A9-4723-4E4E-9DD9-CD04DD8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E2AE-0553-415D-9C1A-22F16CD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C6A6-F21E-41CE-8C8A-FC1CE26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E7B6-AA08-400A-889D-8C9F7504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DE0B-47A5-429E-B4F5-FB1B5214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8D9AA-AB1E-438C-BA8D-AEDF71F7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D86E-E034-4308-AFA9-46F388A6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6C5-340C-4FE0-BBD1-AB3C901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7917-18B1-4DA6-891D-DD4186F7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12DBC-540F-4576-AA02-10119DF3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226E-B26E-43CE-ADB5-72D7AA12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245AF-817A-4622-9C5B-82D1933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37CA-27D1-464C-8FB5-4B2112AB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BFFB-BDB7-4459-8F99-5BFE6FC8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37F0-7E7D-4BCF-8767-0EF4E92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2D69-233B-4EF8-9436-C69175A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CF67B-75CE-4F44-B70B-932CB8C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D9EC-EBB7-41B0-A55B-68D26D37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074-77CE-4DA4-8E4C-394F861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C5A3-B32A-41B1-96AA-E85532A9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7BC4A-D946-4EFF-A502-63BE8732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D5E8-0B72-425F-BEF3-7B1AD3B2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4390A-2C9D-4CB4-8294-2E1CC29F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B94B-A9BC-4513-97D8-DB0AA785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3A4D-56AA-4F72-850E-8A47840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0BEC-0B63-43E0-A9B4-A1AEC145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E172-DFC0-4663-80B1-C81F78CC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136ED-8233-4811-BD75-F58F4638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DC6E-AF43-44C8-AFE2-E5F12C1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30F-9F6C-4E11-BE63-5C0B614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F193-C918-4C26-A9A0-08E53078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6A8A-8993-4D88-ACFD-F32DF852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82B2-8594-400A-BC46-8BD1A156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A7ADF-605B-4EE9-AFEB-9454280B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A6B0D-5F5C-4D1D-8350-EED7B2DA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536D4-F8BF-4885-8AE9-9951C4FF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D1CEF-5A1C-42C2-8649-7C229D55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AFAC5-C483-4A2E-99AB-5F91FA00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E80C6-4384-4CC8-B4C6-2C4C13E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EAEB-D2B2-4B28-8E05-726E284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858-6964-4BE9-B41B-203A5CC7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C7741-F7D4-44CA-8289-3B98748D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34DCA-1C33-4B65-91A5-D68D91B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E3D2-B8A8-4AF7-A34B-D797FCD3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73223-E539-4183-83F2-BD84E558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076D8-4547-479E-804A-EF0D2709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60B1B-75C7-4DAD-8AE1-170C500A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8108-00D5-4F6D-88E7-665B085E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AA1F-9627-4944-9BDC-5391660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061E4-5444-4208-A7F0-3F0F1279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F99B7-8C00-40BB-A051-0EFCCC6D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E6C-4624-4A6A-9C29-81292D39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BA9A4-6D53-4371-91DB-EEEB26BB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91CA-669D-4850-ABD5-93ABDF0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BE3FE-B7C3-4174-8F31-504F06E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3A88-FA31-4776-8BD9-C90A8C32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46E40-D7C7-413E-B775-620C2A5E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59CD6-6E33-4CD1-A13B-94FC0FD5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5EF3E-B7F0-4F25-A5AC-7F3BDB5E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19CA-511E-4011-89A1-FECEBACB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E86D-34C7-4C31-A041-F924EF8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C38A5-5609-42C6-A226-C2A9C110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6CA-AD2E-411B-9084-5A3C67E11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3713-685B-4540-B611-FC948EDF1A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DDF-C9AB-4CE9-B875-C2F5641E5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557-F735-468E-9605-3E05EF8DA4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0689-31BE-470E-8260-EDB489E71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8E7-3ED8-4C1A-9098-4C998EF304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765-9CE6-45F6-90C2-C66D7D7EBE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95AC-CEA7-4484-9AB0-22867D3A8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798E-04D2-4B47-9165-1178FFAEF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1BE3-F59C-4189-86CA-03F1585DB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A1D9-54DF-44A4-B631-2119BD6AD4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232-376A-4684-B606-B54141D3C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20FB-1987-48F3-9DA7-DD749E788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077-2682-479B-B15E-B57E8215A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C8ED-D3E7-49AA-960E-BA9C9B02F7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57D-535C-41E8-9AFB-72700F17C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E8D5-3B29-43A1-888C-24A6AA8B0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ED46-1EF8-4F00-8DA7-16B28F861D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D0E-E88E-4263-AA73-DDCCA81832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88D9-B045-4D6A-88F7-B253C9E77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86CC-D272-4718-9FE3-D7248659CA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064-9BF2-4907-9977-8981C85E6F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6AC3-8694-4AD2-845D-7D2BF389AF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1414-0BA3-43E9-9D48-5FACDD6EC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8E3F-0C58-48C8-B9F8-A7050963A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9B00-E136-4DC9-8723-802CB58D5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51A1-2175-4DC3-AA94-7BF3DE66F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B7E6-6587-46A0-9F1D-7400A6AEB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B4E2-639E-4741-9FCE-982D65508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31A5-8BB4-472A-92EC-D56E892C8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A08-2621-4D4D-B2C5-70D30F18C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EA5-AB51-41D7-95D2-3FD83ACACC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5D15-F343-4265-AA0D-E4C7A317F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62ED-8980-4CCB-9AC6-10D2967ED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3923-9735-4DE5-9C04-7164DE486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2819-409A-4E81-B180-2937BDDF6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4630-02F6-4482-B6BC-6F5D4C1D0D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FA34-F014-4258-BD20-49D7103CD6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1DE7-D3CC-447F-935F-F71BE695C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5A5C-0008-4B48-A3A5-6A0C823DDB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" descr=""/>
          <p:cNvPicPr/>
          <p:nvPr/>
        </p:nvPicPr>
        <p:blipFill>
          <a:blip r:embed="rId2"/>
          <a:stretch/>
        </p:blipFill>
        <p:spPr>
          <a:xfrm>
            <a:off x="3043080" y="1371600"/>
            <a:ext cx="3113280" cy="90504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2" descr=""/>
          <p:cNvPicPr/>
          <p:nvPr/>
        </p:nvPicPr>
        <p:blipFill>
          <a:blip r:embed="rId3"/>
          <a:stretch/>
        </p:blipFill>
        <p:spPr>
          <a:xfrm>
            <a:off x="501480" y="2595600"/>
            <a:ext cx="8142480" cy="904680"/>
          </a:xfrm>
          <a:prstGeom prst="rect">
            <a:avLst/>
          </a:prstGeom>
          <a:ln w="0">
            <a:noFill/>
          </a:ln>
        </p:spPr>
      </p:pic>
      <p:grpSp>
        <p:nvGrpSpPr>
          <p:cNvPr id="1027" name="组合 3079"/>
          <p:cNvGrpSpPr/>
          <p:nvPr/>
        </p:nvGrpSpPr>
        <p:grpSpPr>
          <a:xfrm>
            <a:off x="250920" y="4014720"/>
            <a:ext cx="8694720" cy="757440"/>
            <a:chOff x="250920" y="4014720"/>
            <a:chExt cx="8694720" cy="757440"/>
          </a:xfrm>
        </p:grpSpPr>
        <p:pic>
          <p:nvPicPr>
            <p:cNvPr id="1028" name="图片 3" descr=""/>
            <p:cNvPicPr/>
            <p:nvPr/>
          </p:nvPicPr>
          <p:blipFill>
            <a:blip r:embed="rId4"/>
            <a:stretch/>
          </p:blipFill>
          <p:spPr>
            <a:xfrm>
              <a:off x="250920" y="4014720"/>
              <a:ext cx="5688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图片 4" descr=""/>
            <p:cNvPicPr/>
            <p:nvPr/>
          </p:nvPicPr>
          <p:blipFill>
            <a:blip r:embed="rId5"/>
            <a:stretch/>
          </p:blipFill>
          <p:spPr>
            <a:xfrm>
              <a:off x="6300720" y="4091040"/>
              <a:ext cx="2644920" cy="681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762120" y="1409760"/>
            <a:ext cx="7619760" cy="40384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3203640" y="13701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45960" y="333360"/>
            <a:ext cx="8618760" cy="62676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1547640" y="1600200"/>
            <a:ext cx="6840720" cy="449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187280" y="2722680"/>
            <a:ext cx="684072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4"/>
          <a:stretch/>
        </p:blipFill>
        <p:spPr>
          <a:xfrm>
            <a:off x="1332000" y="3817800"/>
            <a:ext cx="684036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5"/>
          <a:stretch/>
        </p:blipFill>
        <p:spPr>
          <a:xfrm>
            <a:off x="1332000" y="4956120"/>
            <a:ext cx="6840360" cy="449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6"/>
          <a:stretch/>
        </p:blipFill>
        <p:spPr>
          <a:xfrm>
            <a:off x="1258920" y="6093000"/>
            <a:ext cx="6840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2" name="组合 4099"/>
          <p:cNvGrpSpPr/>
          <p:nvPr/>
        </p:nvGrpSpPr>
        <p:grpSpPr>
          <a:xfrm>
            <a:off x="142920" y="1219320"/>
            <a:ext cx="8858160" cy="4419360"/>
            <a:chOff x="142920" y="1219320"/>
            <a:chExt cx="8858160" cy="4419360"/>
          </a:xfrm>
        </p:grpSpPr>
        <p:pic>
          <p:nvPicPr>
            <p:cNvPr id="1033" name="图片 1" descr=""/>
            <p:cNvPicPr/>
            <p:nvPr/>
          </p:nvPicPr>
          <p:blipFill>
            <a:blip r:embed="rId1"/>
            <a:stretch/>
          </p:blipFill>
          <p:spPr>
            <a:xfrm>
              <a:off x="142920" y="1219320"/>
              <a:ext cx="885816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" descr=""/>
            <p:cNvPicPr/>
            <p:nvPr/>
          </p:nvPicPr>
          <p:blipFill>
            <a:blip r:embed="rId2"/>
            <a:stretch/>
          </p:blipFill>
          <p:spPr>
            <a:xfrm>
              <a:off x="3492360" y="2781360"/>
              <a:ext cx="2519640" cy="26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直接连接符 4100"/>
          <p:cNvSpPr/>
          <p:nvPr/>
        </p:nvSpPr>
        <p:spPr>
          <a:xfrm>
            <a:off x="3492360" y="2852640"/>
            <a:ext cx="2592360" cy="1944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01"/>
          <p:cNvSpPr/>
          <p:nvPr/>
        </p:nvSpPr>
        <p:spPr>
          <a:xfrm flipV="1">
            <a:off x="3419640" y="2997360"/>
            <a:ext cx="2592360" cy="158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9" name="组合 5123"/>
          <p:cNvGrpSpPr/>
          <p:nvPr/>
        </p:nvGrpSpPr>
        <p:grpSpPr>
          <a:xfrm>
            <a:off x="938160" y="1633680"/>
            <a:ext cx="7267680" cy="3595680"/>
            <a:chOff x="938160" y="1633680"/>
            <a:chExt cx="7267680" cy="3595680"/>
          </a:xfrm>
        </p:grpSpPr>
        <p:pic>
          <p:nvPicPr>
            <p:cNvPr id="1040" name="图片 1" descr=""/>
            <p:cNvPicPr/>
            <p:nvPr/>
          </p:nvPicPr>
          <p:blipFill>
            <a:blip r:embed="rId1"/>
            <a:stretch/>
          </p:blipFill>
          <p:spPr>
            <a:xfrm>
              <a:off x="938160" y="1633680"/>
              <a:ext cx="7267680" cy="35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1" descr=""/>
            <p:cNvPicPr/>
            <p:nvPr/>
          </p:nvPicPr>
          <p:blipFill>
            <a:blip r:embed="rId2"/>
            <a:stretch/>
          </p:blipFill>
          <p:spPr>
            <a:xfrm>
              <a:off x="3564000" y="2205000"/>
              <a:ext cx="2520720" cy="30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2" name="直接连接符 5124"/>
          <p:cNvSpPr/>
          <p:nvPr/>
        </p:nvSpPr>
        <p:spPr>
          <a:xfrm>
            <a:off x="3492360" y="2421000"/>
            <a:ext cx="2592360" cy="187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5125"/>
          <p:cNvSpPr/>
          <p:nvPr/>
        </p:nvSpPr>
        <p:spPr>
          <a:xfrm flipV="1">
            <a:off x="3535200" y="2636640"/>
            <a:ext cx="2549520" cy="1655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6" name="组合 6147"/>
          <p:cNvGrpSpPr/>
          <p:nvPr/>
        </p:nvGrpSpPr>
        <p:grpSpPr>
          <a:xfrm>
            <a:off x="1138320" y="1647720"/>
            <a:ext cx="6867360" cy="3562560"/>
            <a:chOff x="1138320" y="1647720"/>
            <a:chExt cx="6867360" cy="3562560"/>
          </a:xfrm>
        </p:grpSpPr>
        <p:pic>
          <p:nvPicPr>
            <p:cNvPr id="1047" name="图片 1" descr=""/>
            <p:cNvPicPr/>
            <p:nvPr/>
          </p:nvPicPr>
          <p:blipFill>
            <a:blip r:embed="rId1"/>
            <a:stretch/>
          </p:blipFill>
          <p:spPr>
            <a:xfrm>
              <a:off x="1138320" y="1647720"/>
              <a:ext cx="6867360" cy="35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1" descr=""/>
            <p:cNvPicPr/>
            <p:nvPr/>
          </p:nvPicPr>
          <p:blipFill>
            <a:blip r:embed="rId2"/>
            <a:stretch/>
          </p:blipFill>
          <p:spPr>
            <a:xfrm>
              <a:off x="3708360" y="2205000"/>
              <a:ext cx="2592360" cy="28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9" name="直接连接符 6148"/>
          <p:cNvSpPr/>
          <p:nvPr/>
        </p:nvSpPr>
        <p:spPr>
          <a:xfrm>
            <a:off x="3708360" y="2492280"/>
            <a:ext cx="2592360" cy="1800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6149"/>
          <p:cNvSpPr/>
          <p:nvPr/>
        </p:nvSpPr>
        <p:spPr>
          <a:xfrm flipV="1">
            <a:off x="3708360" y="2492280"/>
            <a:ext cx="2592360" cy="1873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2" descr=""/>
          <p:cNvPicPr/>
          <p:nvPr/>
        </p:nvPicPr>
        <p:blipFill>
          <a:blip r:embed="rId1"/>
          <a:stretch/>
        </p:blipFill>
        <p:spPr>
          <a:xfrm>
            <a:off x="281160" y="947880"/>
            <a:ext cx="8580240" cy="49622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814320" y="857160"/>
            <a:ext cx="7515360" cy="41418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2" descr=""/>
          <p:cNvPicPr/>
          <p:nvPr/>
        </p:nvPicPr>
        <p:blipFill>
          <a:blip r:embed="rId2"/>
          <a:stretch/>
        </p:blipFill>
        <p:spPr>
          <a:xfrm>
            <a:off x="973080" y="5072040"/>
            <a:ext cx="6219720" cy="1647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116000" y="83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1116000" y="270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1258920" y="5084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162560" cy="45720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3"/>
          <a:stretch/>
        </p:blipFill>
        <p:spPr>
          <a:xfrm>
            <a:off x="1979640" y="2997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4"/>
          <a:stretch/>
        </p:blipFill>
        <p:spPr>
          <a:xfrm>
            <a:off x="197964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5"/>
          <a:stretch/>
        </p:blipFill>
        <p:spPr>
          <a:xfrm>
            <a:off x="1979640" y="4653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6"/>
          <a:stretch/>
        </p:blipFill>
        <p:spPr>
          <a:xfrm>
            <a:off x="2050920" y="522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657360" y="1795320"/>
            <a:ext cx="782928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223920" y="1433520"/>
            <a:ext cx="8694720" cy="3990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3203640" y="32986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6516720" y="3875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3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